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C4A6-3CEA-44E6-836B-D2172EB315B3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投影片編號版面配置區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65AA-6D87-4CBB-A31A-994BAEC05A88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6FC4-51C4-4DC5-8355-DDDD1C8B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36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6EF6-E3C4-472B-A3D6-5AF71DA4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54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7EEF-DBB7-4ECF-ADF2-2B8F522D9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836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5080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324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B031-B162-4C6C-98B7-E4E7D8CE5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174400" y="-141480"/>
            <a:ext cx="657396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2ED3-7241-48C5-B4A9-797AAAEC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B8B1-0A4C-4B0D-88F0-315F4786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447F-3A63-4D8C-83B8-F3C3EE4F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41BC-8F21-48C5-BEA6-2F82358D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174400" y="-141480"/>
            <a:ext cx="657396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3CB1-8DA2-46B7-885B-44E7BF17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5D48-029F-49D9-B6EB-5BFDAC7E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54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1084-0E1D-4EAA-92BE-68960B92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65E5-EEB8-4A10-809F-53EE915C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3"/>
          <p:cNvSpPr/>
          <p:nvPr/>
        </p:nvSpPr>
        <p:spPr>
          <a:xfrm>
            <a:off x="0" y="6215040"/>
            <a:ext cx="5724360" cy="642960"/>
          </a:xfrm>
          <a:prstGeom prst="rect">
            <a:avLst/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2" descr="pic5"/>
          <p:cNvPicPr/>
          <p:nvPr/>
        </p:nvPicPr>
        <p:blipFill>
          <a:blip r:embed="rId2"/>
          <a:stretch/>
        </p:blipFill>
        <p:spPr>
          <a:xfrm>
            <a:off x="0" y="6429240"/>
            <a:ext cx="2928960" cy="42876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1"/>
          <p:cNvSpPr/>
          <p:nvPr/>
        </p:nvSpPr>
        <p:spPr>
          <a:xfrm>
            <a:off x="0" y="0"/>
            <a:ext cx="9144000" cy="642960"/>
          </a:xfrm>
          <a:prstGeom prst="rect">
            <a:avLst/>
          </a:prstGeom>
          <a:solidFill>
            <a:srgbClr val="009f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pic3"/>
          <p:cNvPicPr/>
          <p:nvPr/>
        </p:nvPicPr>
        <p:blipFill>
          <a:blip r:embed="rId3"/>
          <a:srcRect l="0" t="5717" r="37404" b="77551"/>
          <a:stretch/>
        </p:blipFill>
        <p:spPr>
          <a:xfrm>
            <a:off x="8075520" y="0"/>
            <a:ext cx="1068480" cy="64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-36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771640" y="63082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027640" y="6453360"/>
            <a:ext cx="10191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47BA-603A-4F58-9F9F-914E64720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8"/>
          <p:cNvGrpSpPr/>
          <p:nvPr/>
        </p:nvGrpSpPr>
        <p:grpSpPr>
          <a:xfrm>
            <a:off x="47520" y="0"/>
            <a:ext cx="2088720" cy="642960"/>
            <a:chOff x="47520" y="0"/>
            <a:chExt cx="2088720" cy="642960"/>
          </a:xfrm>
        </p:grpSpPr>
        <p:pic>
          <p:nvPicPr>
            <p:cNvPr id="10" name="Picture 9" descr="whtc"/>
            <p:cNvPicPr/>
            <p:nvPr/>
          </p:nvPicPr>
          <p:blipFill>
            <a:blip r:embed="rId4"/>
            <a:stretch/>
          </p:blipFill>
          <p:spPr>
            <a:xfrm>
              <a:off x="904320" y="26280"/>
              <a:ext cx="1231920" cy="5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Picture 10" descr="htc_light"/>
            <p:cNvPicPr/>
            <p:nvPr/>
          </p:nvPicPr>
          <p:blipFill>
            <a:blip r:embed="rId5"/>
            <a:stretch/>
          </p:blipFill>
          <p:spPr>
            <a:xfrm>
              <a:off x="47520" y="0"/>
              <a:ext cx="856800" cy="6429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2" descr="2009"/>
          <p:cNvPicPr/>
          <p:nvPr/>
        </p:nvPicPr>
        <p:blipFill>
          <a:blip r:embed="rId2"/>
          <a:srcRect l="16738" t="0" r="0" b="0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" descr="1"/>
          <p:cNvPicPr/>
          <p:nvPr/>
        </p:nvPicPr>
        <p:blipFill>
          <a:blip r:embed="rId3"/>
          <a:stretch/>
        </p:blipFill>
        <p:spPr>
          <a:xfrm>
            <a:off x="177840" y="5950080"/>
            <a:ext cx="793800" cy="793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1"/>
          <p:cNvPicPr/>
          <p:nvPr/>
        </p:nvPicPr>
        <p:blipFill>
          <a:blip r:embed="rId4"/>
          <a:stretch/>
        </p:blipFill>
        <p:spPr>
          <a:xfrm>
            <a:off x="1114560" y="5950080"/>
            <a:ext cx="793440" cy="793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1"/>
          <p:cNvPicPr/>
          <p:nvPr/>
        </p:nvPicPr>
        <p:blipFill>
          <a:blip r:embed="rId5"/>
          <a:stretch/>
        </p:blipFill>
        <p:spPr>
          <a:xfrm>
            <a:off x="2049480" y="5950080"/>
            <a:ext cx="793800" cy="793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" descr="1"/>
          <p:cNvPicPr/>
          <p:nvPr/>
        </p:nvPicPr>
        <p:blipFill>
          <a:blip r:embed="rId6"/>
          <a:stretch/>
        </p:blipFill>
        <p:spPr>
          <a:xfrm>
            <a:off x="2986200" y="5950080"/>
            <a:ext cx="793800" cy="7938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4240" y="2071800"/>
            <a:ext cx="8072640" cy="28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0000"/>
                </a:solidFill>
                <a:latin typeface="Arial"/>
              </a:rPr>
              <a:t>股票代號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:6208</a:t>
            </a:r>
            <a:br>
              <a:rPr sz="6000"/>
            </a:br>
            <a:r>
              <a:rPr b="1" lang="zh-TW" sz="6000" spc="-1" strike="noStrike">
                <a:solidFill>
                  <a:srgbClr val="ff0000"/>
                </a:solidFill>
                <a:latin typeface="Arial"/>
              </a:rPr>
              <a:t>日揚科技股份有限公司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HTC-01"/>
          <p:cNvPicPr/>
          <p:nvPr/>
        </p:nvPicPr>
        <p:blipFill>
          <a:blip r:embed="rId1"/>
          <a:stretch/>
        </p:blipFill>
        <p:spPr>
          <a:xfrm>
            <a:off x="214200" y="1285920"/>
            <a:ext cx="2286000" cy="771480"/>
          </a:xfrm>
          <a:prstGeom prst="rect">
            <a:avLst/>
          </a:prstGeom>
          <a:ln w="0">
            <a:noFill/>
          </a:ln>
        </p:spPr>
      </p:pic>
      <p:sp>
        <p:nvSpPr>
          <p:cNvPr id="100" name="文字方塊 5"/>
          <p:cNvSpPr/>
          <p:nvPr/>
        </p:nvSpPr>
        <p:spPr>
          <a:xfrm>
            <a:off x="7286760" y="621504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 5 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28400" y="642960"/>
            <a:ext cx="871524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單位：新台幣仟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85840" y="928800"/>
          <a:ext cx="8715240" cy="5735520"/>
        </p:xfrm>
        <a:graphic>
          <a:graphicData uri="http://schemas.openxmlformats.org/drawingml/2006/table">
            <a:tbl>
              <a:tblPr/>
              <a:tblGrid>
                <a:gridCol w="2349360"/>
                <a:gridCol w="1579680"/>
                <a:gridCol w="642960"/>
                <a:gridCol w="1869840"/>
                <a:gridCol w="1630440"/>
                <a:gridCol w="6429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金   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負債及股東權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金   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現金及約當現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49,7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流動負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40,1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應收票據及帳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68,5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長期負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9,6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存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76,7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負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,1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流動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3,7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負債總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85,9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流動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68,8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股東權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總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415,4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投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62,1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固定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82,3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無形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1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86,8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資產總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801,3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負債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股東權益總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801,3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矩形 3"/>
          <p:cNvSpPr/>
          <p:nvPr/>
        </p:nvSpPr>
        <p:spPr>
          <a:xfrm>
            <a:off x="4006440" y="0"/>
            <a:ext cx="19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日揚</a:t>
            </a:r>
            <a:r>
              <a:rPr b="1" lang="en-US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2010</a:t>
            </a:r>
            <a:r>
              <a:rPr b="1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年第一季簡明資產負債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　　　　　　　　　　　　　　　　　　　　　　　　　　　　　　　　單位：新台幣仟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85840" y="928800"/>
          <a:ext cx="8501040" cy="5079960"/>
        </p:xfrm>
        <a:graphic>
          <a:graphicData uri="http://schemas.openxmlformats.org/drawingml/2006/table">
            <a:tbl>
              <a:tblPr/>
              <a:tblGrid>
                <a:gridCol w="5172120"/>
                <a:gridCol w="3328920"/>
              </a:tblGrid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金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營業活動之現金流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124,42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本期淨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7,2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折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5,48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現金增資員工認股選擇權酬勞成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1,7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9,92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投資活動之現金流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64,74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資本支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2,934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投資活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7,68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融資活動之現金流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(129,184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短期借款及應付短期票券減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346,270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償還長期借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2,914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現金增資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20,0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現金淨增加金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59,99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年初現金餘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9,76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年底現金餘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149,7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8" name="矩形 3"/>
          <p:cNvSpPr/>
          <p:nvPr/>
        </p:nvSpPr>
        <p:spPr>
          <a:xfrm>
            <a:off x="3994560" y="0"/>
            <a:ext cx="224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日揚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2010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年第一季現金流量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0" y="64260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日揚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歷年財務比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14200" y="1428840"/>
          <a:ext cx="8748720" cy="4714920"/>
        </p:xfrm>
        <a:graphic>
          <a:graphicData uri="http://schemas.openxmlformats.org/drawingml/2006/table">
            <a:tbl>
              <a:tblPr/>
              <a:tblGrid>
                <a:gridCol w="87487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      2002      2003     2004     2005     2006     2007     2008      2009      2010Q1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20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流動性比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流動比率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377%     259%    295%    269%    181%    160%    122%    111%    127%      226%   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速動比率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77%     162%    193%    164%    128%    113%      79%      63%     84%      142%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資產管理比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固定資產週轉率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.20      3.02      2.89      3.62      4.56      3.00      6.36       3.84      2.76       3.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總資產週轉率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66      0.80      0.77      0.95      0.88      0.77      0.77       0.67      0.44       0.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負債管理比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負債比率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8.7%    25.8%   41.0%   41.3%   39.4%   40.6%   42.0%  41.9%    36.3%    21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利息保障倍數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30.70     69.49     22.59    36.68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4.99    54.12    24.76     9.38     (3.58)      16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獲利性比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毛利率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32.8%   34.5%   34.5%   33.0%    28.5%   29.3%   27.9%   28.8%   24.6%     3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      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總資產報酬率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7.6%   14.5%   14.3%   15.4%    12.8%   10.7%    5.5%     3.4%    (1.9%)      4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股東權益報酬率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9.6%   18.8%   21.1%   25.5%    20.8%   17.5%    8.9%     5.2%    (3.9%)    5.3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每股盈餘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82     1.84       2.08     2.79 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.38       2.37      1.12      0.72      (0.51)       0.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2124000" y="4076640"/>
            <a:ext cx="4876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http://www.high-light.com.t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1987560" y="2924280"/>
            <a:ext cx="51055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aae8f4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aae8f4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14200" y="642600"/>
            <a:ext cx="8715600" cy="578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lnSpc>
                <a:spcPts val="3362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            </a:t>
            </a:r>
            <a:r>
              <a:rPr b="1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財務資訊摘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44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新細明體"/>
              </a:rPr>
              <a:t>▓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009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年因金融風暴影響，年營收為</a:t>
            </a:r>
            <a:r>
              <a:rPr b="1" lang="en-US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NT$8.15</a:t>
            </a: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億元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，合併營收為</a:t>
            </a:r>
            <a:r>
              <a:rPr b="1" lang="en-US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NT$10.66</a:t>
            </a: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億元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，首度出現小額虧損</a:t>
            </a:r>
            <a:r>
              <a:rPr b="1" lang="en-US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EPS-0.51</a:t>
            </a: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44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▓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010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Q1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營收為</a:t>
            </a:r>
            <a:r>
              <a:rPr b="1" lang="en-US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NT$2.35</a:t>
            </a: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億元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，較去年同期略為減少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5.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44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因產業逐漸復甦及主要客戶陸續提高資本支出計劃，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010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年業績展望樂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0" y="71424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單位：新台幣仟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85840" y="1000080"/>
          <a:ext cx="8643960" cy="5429160"/>
        </p:xfrm>
        <a:graphic>
          <a:graphicData uri="http://schemas.openxmlformats.org/drawingml/2006/table">
            <a:tbl>
              <a:tblPr/>
              <a:tblGrid>
                <a:gridCol w="2833560"/>
                <a:gridCol w="1700280"/>
                <a:gridCol w="779400"/>
                <a:gridCol w="1673280"/>
                <a:gridCol w="736560"/>
                <a:gridCol w="9208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科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YoY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收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14,6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356,6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4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成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14,3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968,6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3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毛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00,3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88,0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4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費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81,3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19,3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淨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8,9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68,6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8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外收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76,80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77,52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稅前淨利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淨損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57,83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91,1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6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所得稅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利益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費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1,94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2,1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3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本期淨利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淨損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45,88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9,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7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EP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0.5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0.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4" name="矩形 5"/>
          <p:cNvSpPr/>
          <p:nvPr/>
        </p:nvSpPr>
        <p:spPr>
          <a:xfrm>
            <a:off x="2357280" y="0"/>
            <a:ext cx="518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日揚</a:t>
            </a:r>
            <a:r>
              <a:rPr b="1" lang="en-US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2009</a:t>
            </a:r>
            <a:r>
              <a:rPr b="1" lang="zh-TW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年度損益比較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28400" y="642960"/>
            <a:ext cx="871524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單位：新台幣仟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85840" y="928800"/>
          <a:ext cx="8715240" cy="5381640"/>
        </p:xfrm>
        <a:graphic>
          <a:graphicData uri="http://schemas.openxmlformats.org/drawingml/2006/table">
            <a:tbl>
              <a:tblPr/>
              <a:tblGrid>
                <a:gridCol w="2349360"/>
                <a:gridCol w="1363680"/>
                <a:gridCol w="644400"/>
                <a:gridCol w="2084400"/>
                <a:gridCol w="1630440"/>
                <a:gridCol w="6429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金   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負債及股東權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金   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現金及約當現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9,7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流動負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16,2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應收票據及帳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88,4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長期負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2,7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存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54,8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負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,3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流動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48,3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負債總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66,4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流動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81,4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股東權益總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169,1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投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65,9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固定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95,5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無形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2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91,3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資產總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835,5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負債及股東權益總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835,5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矩形 3"/>
          <p:cNvSpPr/>
          <p:nvPr/>
        </p:nvSpPr>
        <p:spPr>
          <a:xfrm>
            <a:off x="3223800" y="0"/>
            <a:ext cx="355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日揚</a:t>
            </a:r>
            <a:r>
              <a:rPr b="1" lang="en-US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2009</a:t>
            </a:r>
            <a:r>
              <a:rPr b="1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年度簡明資產負債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　　　　　　　　　　　　　　　　　　　　　　　　　　　　　　　　單位：新台幣仟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85840" y="928800"/>
          <a:ext cx="8501040" cy="5397480"/>
        </p:xfrm>
        <a:graphic>
          <a:graphicData uri="http://schemas.openxmlformats.org/drawingml/2006/table">
            <a:tbl>
              <a:tblPr/>
              <a:tblGrid>
                <a:gridCol w="5172120"/>
                <a:gridCol w="3328920"/>
              </a:tblGrid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金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營業活動之現金流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190,35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本期淨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45,888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折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4,39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按權益法認列之投資損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93,4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8,41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投資活動之現金流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(281,631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資本支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7,635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投資活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273,996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融資活動之現金流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(20,164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舉借長期借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0,0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償還長期借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5,479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贖回公司債價款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28,516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理財活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3,83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現金淨減少金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(111,439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年初現金餘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01,20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年底現金餘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89,76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0" name="矩形 3"/>
          <p:cNvSpPr/>
          <p:nvPr/>
        </p:nvSpPr>
        <p:spPr>
          <a:xfrm>
            <a:off x="3344040" y="0"/>
            <a:ext cx="354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日揚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2009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年度現金流量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0" y="71424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單位：新台幣仟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85840" y="1000080"/>
          <a:ext cx="8643960" cy="5429160"/>
        </p:xfrm>
        <a:graphic>
          <a:graphicData uri="http://schemas.openxmlformats.org/drawingml/2006/table">
            <a:tbl>
              <a:tblPr/>
              <a:tblGrid>
                <a:gridCol w="2833560"/>
                <a:gridCol w="1700280"/>
                <a:gridCol w="779400"/>
                <a:gridCol w="1673280"/>
                <a:gridCol w="736560"/>
                <a:gridCol w="9208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科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YoY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收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066,3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813,8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4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成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09,7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311,1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3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毛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56,6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02,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4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費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77,8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88,5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2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淨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21,21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14,1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1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外收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65,63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56,38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合併稅前淨利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淨損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86,84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7,7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25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所得稅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利益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費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1,95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7,5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4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合併總純益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純損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74,89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0,2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34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EP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0.5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0.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3" name="矩形 5"/>
          <p:cNvSpPr/>
          <p:nvPr/>
        </p:nvSpPr>
        <p:spPr>
          <a:xfrm>
            <a:off x="2357280" y="0"/>
            <a:ext cx="518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日揚</a:t>
            </a:r>
            <a:r>
              <a:rPr b="1" lang="en-US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2009</a:t>
            </a:r>
            <a:r>
              <a:rPr b="1" lang="zh-TW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年度合併損益比較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28400" y="642960"/>
            <a:ext cx="871524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單位：新台幣仟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14200" y="949320"/>
          <a:ext cx="8715600" cy="5857920"/>
        </p:xfrm>
        <a:graphic>
          <a:graphicData uri="http://schemas.openxmlformats.org/drawingml/2006/table">
            <a:tbl>
              <a:tblPr/>
              <a:tblGrid>
                <a:gridCol w="2349720"/>
                <a:gridCol w="1650960"/>
                <a:gridCol w="642960"/>
                <a:gridCol w="1798560"/>
                <a:gridCol w="1630440"/>
                <a:gridCol w="6429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金   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負債及股東權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金   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現金及約當現金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04,6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流動負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129,6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應收票據及帳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43,8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長期負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14,2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存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78,9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負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流動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53,6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負債總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243,9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流動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081,0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股東權益總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238,0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投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98,2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固定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076,5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無形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1,9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94,2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資產總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,482,0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負債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股東權益總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,482,0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矩形 3"/>
          <p:cNvSpPr/>
          <p:nvPr/>
        </p:nvSpPr>
        <p:spPr>
          <a:xfrm>
            <a:off x="3010680" y="0"/>
            <a:ext cx="397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日揚</a:t>
            </a:r>
            <a:r>
              <a:rPr b="1" lang="en-US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2009</a:t>
            </a:r>
            <a:r>
              <a:rPr b="1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年度簡明合併資產負債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　　　　　　　　　　　　　　　　　　　　　　　　　　　　　　　　單位：新台幣仟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85840" y="928800"/>
          <a:ext cx="8501040" cy="5715000"/>
        </p:xfrm>
        <a:graphic>
          <a:graphicData uri="http://schemas.openxmlformats.org/drawingml/2006/table">
            <a:tbl>
              <a:tblPr/>
              <a:tblGrid>
                <a:gridCol w="5172120"/>
                <a:gridCol w="3328920"/>
              </a:tblGrid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金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營業活動之現金流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215,52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合併總純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74,898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折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49,33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41,08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投資活動之現金流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(88,034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資本支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87,724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投資活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310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融資活動之現金流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(176,811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舉借長期借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9,56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償還長期借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66,885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贖回公司債價款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28,516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理財活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90,972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對子公司喪失控制能力前現金流量淨影響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48,593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匯率影響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4,272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現金淨減少金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(102,186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年初現金餘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06,8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年底現金餘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204,64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9" name="矩形 3"/>
          <p:cNvSpPr/>
          <p:nvPr/>
        </p:nvSpPr>
        <p:spPr>
          <a:xfrm>
            <a:off x="3100680" y="0"/>
            <a:ext cx="40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日揚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2009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年度合併現金流量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0" y="71424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單位：新台幣仟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85840" y="1000080"/>
          <a:ext cx="8643960" cy="5429160"/>
        </p:xfrm>
        <a:graphic>
          <a:graphicData uri="http://schemas.openxmlformats.org/drawingml/2006/table">
            <a:tbl>
              <a:tblPr/>
              <a:tblGrid>
                <a:gridCol w="2833560"/>
                <a:gridCol w="1700280"/>
                <a:gridCol w="779400"/>
                <a:gridCol w="1673280"/>
                <a:gridCol w="736560"/>
                <a:gridCol w="9208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科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010Q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009Q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YoY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收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35,0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77,3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成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65,2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26,9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2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毛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9,8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0,4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費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1,9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7,2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淨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7,9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,2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外收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9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88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稅前淨利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淨損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8,8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,3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所得稅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利益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費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5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,10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本期淨利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淨損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7,2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,4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EP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0.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0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2" name="矩形 5"/>
          <p:cNvSpPr/>
          <p:nvPr/>
        </p:nvSpPr>
        <p:spPr>
          <a:xfrm>
            <a:off x="2357280" y="0"/>
            <a:ext cx="518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日揚</a:t>
            </a:r>
            <a:r>
              <a:rPr b="1" lang="en-US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2010</a:t>
            </a:r>
            <a:r>
              <a:rPr b="1" lang="zh-TW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年第一季損益比較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05:59:41Z</dcterms:created>
  <dc:creator>YELIN</dc:creator>
  <dc:description/>
  <dc:language>en-US</dc:language>
  <cp:lastModifiedBy>yelin</cp:lastModifiedBy>
  <dcterms:modified xsi:type="dcterms:W3CDTF">2010-05-05T08:37:54Z</dcterms:modified>
  <cp:revision>266</cp:revision>
  <dc:subject/>
  <dc:title>HTC簡報範本(横式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文件</vt:lpwstr>
  </property>
</Properties>
</file>